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B5BD-75E9-4216-89BE-3E8E6A4B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9640-0169-4C67-8901-A14F4DA1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067F-1F8B-46E7-B39E-04C90DA4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0C6-ACB7-40F4-ACAA-9C319F7B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3217-5CD6-445E-8E3E-69BCEF6E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0868-8927-4615-9B85-E04B634B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C69-79C3-4F34-9195-40A08C0C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8E2F-284B-49F3-B7FC-3D7DEE4D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0F00-29E3-40A0-96D2-E03E7728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2EAC-EF97-43EA-B09E-9DDA173C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661C-BC4B-4C69-902F-A2369948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308E-6C76-475F-8D87-3594EF5E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3E32-7AA5-4E2E-BCFD-63CEB886B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3505320" cy="2857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715000" y="457200"/>
            <a:ext cx="1951200" cy="2819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" y="3505320"/>
            <a:ext cx="833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you think neither artist chose to show any people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s these paintin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story could you write to explain why there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ople in s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think you would like to visit either of these loc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the art and the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3657600"/>
            <a:ext cx="2971800" cy="17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October Sunlight on Second Stree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Claude Howell, American, 1915-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oil on can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41” x 50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968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657600"/>
            <a:ext cx="35053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Untitled (Porch Sce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Eric Lawing, Ameri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oil on can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42” x2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360" y="571500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would you like to know about the art or the arti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fin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2971800" cy="2422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410080" y="838080"/>
            <a:ext cx="17384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Twen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42667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: 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Art: texture, shape, line,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Arts: setting, descriptive language, or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1004760"/>
            <a:ext cx="3886200" cy="3167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15000" y="990720"/>
            <a:ext cx="2198520" cy="31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5105520" cy="4160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1320" y="4687920"/>
            <a:ext cx="85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e that you are actually standing on this street looking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houses.  What do you not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you imagine you might hear or smell in t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5105520" cy="4160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4952880"/>
            <a:ext cx="857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houses can you find in this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you point out that might tell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is neighborh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5105520" cy="4160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440" y="4800600"/>
            <a:ext cx="885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dimensional sha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you identify in the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dimensional sha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you point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876920" cy="3975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4720" y="4535640"/>
            <a:ext cx="7890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tell wher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ming from by looking 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d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you see that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e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reate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is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65560" cy="6019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3440" y="304920"/>
            <a:ext cx="4429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is another painting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s several h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e that you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ing in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ighborh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you looking down or up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uses?  How can you t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lues can you find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us know the loc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you hear and smell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things in t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hood as in the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?  Explain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160880" cy="6019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24280" y="380880"/>
            <a:ext cx="421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in this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you s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the lines in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you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you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ell w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s these house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from? Expl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485640"/>
            <a:ext cx="5105520" cy="4160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67560" y="533520"/>
            <a:ext cx="2847960" cy="4114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200" y="5257800"/>
            <a:ext cx="84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whe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ings?  Look carefully 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, texture, shape, and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ha Burdette</cp:lastModifiedBy>
  <dcterms:modified xsi:type="dcterms:W3CDTF">2007-07-26T22:39:26Z</dcterms:modified>
  <cp:revision>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